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AC08-94B5-4D65-B2D8-89A61B588D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0E26-CB0E-4916-A437-256D9940BE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01CA-9715-400C-80E5-07A1C265E2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EB9-0BF4-4C33-A048-633F8429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62F-D2B7-4704-9A05-2C16BA40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B99-373A-478C-A1A1-D30A40C3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71A-EAB6-4B15-8BBB-1F7386C1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605-E7C9-4124-8DC7-0A64FEC9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100-F03A-4DC3-9D65-8CD951A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1DA-9428-493F-B10B-6C302D7C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5F7-F138-4E05-BF59-D1EA8FB7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6F4-D849-40D4-8DEE-11F36860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5B7-296F-4BD8-ABC3-342EB8B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4FB-E871-413D-A8B0-01BF340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50E-BC89-4CD0-B448-E96989D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4403-0126-48BE-A53E-6F7C8E4D8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189000"/>
            <a:ext cx="8915400" cy="1295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600200"/>
            <a:ext cx="9710640" cy="4997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цип определения права на накопительную часть  трудовой пенсии по старости и на срочную пенсионную выплату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реализации   Федерального закона от 30.11.2011 № 359-ФЗ «О внесении изменений в отдельные законодательные акты Российской Федерации в связи с принятием Федерального закона «О порядке финансирования выплат за счет средств пенсионных накоплений» и Федерального закона от 30.11.2011 № 360-ФЗ «О порядке финансирования выплат за счет средств пенсионных накоплений»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 = (3746,95+3278,59) + 574,07 = 7025,54+574,07 = 7599,6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тем  определяем процентное  отношение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574,07 / 7599,61 * 100 = 7,6,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более 5 %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от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размер  накопительной  части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трудовой пенсии по  старости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 только из ОПС  )  п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уле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Ч = ПН / 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Ч = 100000,00/216 =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462,9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размер срочной пенсионной выплаты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по формуле (из источников на ДСВ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СП = ПН/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СП= 24000,00/ 120(количество месяцев указанное в заявлении) = 200,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Данное застрахованное лицо будет иметь право на следующие выплаты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 = (3746,95(СЧ) +3278,59(ФБР)) +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462,96(НЧ)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= 7488,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СП (из источников на ДСВ) - 200,00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на срок с 19.07.2012 по 19.07.2022гг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Выносятся решения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-  о назначении  накопительной части трудовой пенсии по старости и срочной пенсионной выплат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-   об отказе в назначении единовременной выплаты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 основанию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змер накопительной части трудовой пенсии по старости в случае ее назначения составил бы более 5% по отношению к размеру трудовой пенсии по старости(включая страховую и накопительную части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1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Lucida Console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9.07.2012г. з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 назначением трудовой пенсии по старости обращается женщина  19.07.1957г.р., с соответствующими заявлениями о  назначении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копительной части трудовой пенсии  по старости  и срочной пенсионной выплат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указанием ожидаемого периода выплаты  120 месяцев (для срочной выплаты)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единовременной выплат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3746,95+3278,59 = 7025,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(из  ОПС) 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5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24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  -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из всех СПН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 (15000,00 + 24000,00) /  216(на дату назначение трудовой пенсии по старости) = 39000,00/216 = 180,5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 первоначально определяем  размер трудовой пенсии по старости 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4520" y="309240"/>
            <a:ext cx="891540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 (3746,95+3278,59) + 180,56 = 7025,54+180,56 = 7206,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80,56/7206,10 * 100 = 2,5 ,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менее  5 %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ое застрахованное лицо имеет право на единовременную выплату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 всех СПН на дату обращ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ятся решения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об отказе в назначении накопительной части трудовой пенсии по старости и срочной выплат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основанию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азмер накопительной части трудовой пенсии по старости в случае ее назначения составил бы 5 % и менее по отношению к размеру трудовой пенсии по старости (включая страховую и накопительную част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 осуществлении единовременной выплат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состоянию  на дату обращения в сумме 15000,00+24000,00=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9000,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2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Lucida Console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9.07.2012г. з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 назначением трудовой пенсии по старости обращается женщина, 19.07.1957г.р., с соответствующими заявлениями о назначении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копительной части трудовой пенсии по старости,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с учетом всех имеющихся средств пенсионных накоплений, и единовременной выпла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3746,95+3278,59 = 7025,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(из ОПС) 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00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24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 по старости, и дохода от их инвестирования -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из  всех СПН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 (100000,00 + 24000,00)/216(на дату назначение трудовой пенсии по старости)=124000,00/216 = 574,0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шению к размеру трудовой пенсии по старости (включая страховую и накопительную части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воначально необходимо определить  размер трудовой пенсии по старости 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( 3746,95+3278,59) + 574,07 = 7025,54+574,07 = 7599,6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74,07 / 7599,61 * 100 = 7,6,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более 5 %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4520" y="309240"/>
            <a:ext cx="891540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размер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накопительной  части трудовой пенсии по  старости (  из всех ОПС )  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= ПН /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 (100000,00+24000,00)/216(на дату назначение трудовой пенсии по старости) = 124000,00/216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74,07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м чис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62,96  (100000,00/216)  - из основных пенсионных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11,11  (24000,00/216)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дополнительных страховых взно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0,00    -  из средств материнского (семейного) капит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ое застрахованное лицо имеет право на накопительную часть трудовой пенсии по стар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(3746,95(СЧ) +3278,59(ФБР)) +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74,07(НЧ)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= 7599,6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ятся решения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 о назначении  накопительной части трудовой пенсии по стар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 об отказе в назначении единовременной выплаты по основанию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 накопительной части трудовой пенсии по старости в случае ее назначения составил бы более 5% по отношению к размеру трудовой пенсии по старости(включая страховую и накопительную част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3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Lucida Console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9.07.2012г. з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 назначением трудовой пенсии по старости обращается женщина, 19.07.1957г.р., с соответствующими заявлениями о назначении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опительной части трудовой пенсии по старости,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с учетом всех имеющихся средств пенсионных накоплений, и единовременной выпла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3746,95+3278,59=7025,5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(из ОПС)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000,00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24000,00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удовой пенсии, и дохода от их инвестирования -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из всех СПН)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(15000,00 + 24000,00) / 216(на дату назначение трудовой пенсии по старости) = 39000,00/216 = 180,5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 первоначально определяем  размер трудовой пенсии по старости по форму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 ( 3746,95+3278,59) + 180,56 = 7025,54+180,56 = 7206,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80,56 / 7206,10 * 100 = 2,5 ,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то составляет менее  5 % от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ное застрахованное лицо имеет право на единовременную выплат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  всех СПН на дату обращени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носятся реш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об отказе в назначении накопительной части трудовой пенсии по старости по основанию 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азмер накопительной части трудовой пенсии по старости в случае ее назначения составил бы 5 % и менее по отношению к размеру трудовой пенсии по старости (включая страховую и накопительную части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об осуществлении единовременной выплаты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умме 15000,00+24000,00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9000,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4520" y="309240"/>
            <a:ext cx="891540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19.07.2012г. з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 назначением трудовой пенсии по старости обращается женщина, 19.07.1957г.р., с соответствующими заявлениями о назначении только </a:t>
            </a: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срочной пенсионной выплаты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 указанием ожидаемого периода выплаты  120 месяцев (для срочной выплаты) и единовременной выплаты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П =3746,95+3278,59=7025,5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-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70000,00  руб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24000,00 руб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 -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0,00  руб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= (70000,00 + 24000,00) /  216(на дату назначение трудовой пенсии по старости) = 94000,00/216 = 435,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первоначально необходимо определить  размер трудовой пенсии по старости по формуле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П = ( 3746,95+3278,59) + 435,19 = 7025,54+435,19 = 7460,7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435,19 / 7460,73 * 100 = 5,8,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что составляет более 5 % от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анное застрахованное лицо имеет право на срочную пенсионную выплату, т.к. размер накопительной части трудовой пенсии по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тарости из всех имеющихся средств пенсионных накоплений составил более 5 %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размер срочной пенсионной выплаты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по формуле: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П = ПН/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П= 24000,00/ 120(количество месяцев указанное в заявлении) = 200,0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Данное застрахованное лицо будет иметь право на следующие выплаты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П = 3746,95(СЧ) +3278,59(ФБР) = 7025,5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П - 200,00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на срок с 19.07.2012 по 19.07.2022гг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Выносится решения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-    о назначении   срочной пенсионной выплаты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б отказе в назначении единовременной выплаты по основанию: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азмер накопительной части трудовой пенсии по старости в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учае ее назначения составил бы более 5% по отношению к размеру трудовой пенсии по старост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4520" y="309240"/>
            <a:ext cx="891540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15.12.201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., данное застрахованное лицо,  обращается за назначением накопительной части трудовой пенсии  по старости и единовременной выпла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0000,00 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НЧ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 из средств на ОП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.к.  срочная пенсионная выплата из средств, указанных в источник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ДСВ   уже установ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70000,00/216(на дату назначение трудовой пенсии по старости) = 70000,00/216 = 324,07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первоначально необходимо определить  размер трудовой пенсии по старости по форму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 ( 3746,95+3278,59)+ 324,07= 7025,54+324,07 = 7349,6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: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24,07 / 7349,61 * 100 = 4,4,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то составляет менее 5 % от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ное застрахованное лицо имеет право на единовременную выплат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 основных пенсионных средст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носятся реш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об отказе в назначении накопительной части трудовой пенсии по старости по основанию 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азмер накопительной части трудовой пенсии по старости в случае ее назначения составил бы 5 % и менее по отношению к размеру трудовой пенсии по старости (включая страховую и накопительную части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об осуществлении единовременной выплат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в сумм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0000,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рочная пенсионная выплата продолжается выплачивать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5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Lucida Console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страхованному лицу,1948г.р., трудовая пенсия по старости  в соответствии в ФЗ от 22.07.2008 № 156-ФЗ назначена с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5.05.200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назначением накопительной части трудовой пенсии  и единовременной вып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 указанное лицо,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тилось 16.07.2012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пециальной части ИЛС ЗЛ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 дату обращения  учтены средства пенсионных накоплений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формированные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олько за счет дополнительных страховых взно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 трудовой пенсии по старости по состоянию на 15.07.2012  составля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2989,31 (без учета ФБР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– 0,0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24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 -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 24000,00 /  216(на  дату обращения )=111,1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 первоначально определяем  размер трудовой пенсии по старости 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СЧ(без учета ФБР)+Н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6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2989,31+ 111,11= 3100,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11,11 / 3100,42 * 100= 3,9,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менее  5 %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от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нное застрахованное лицо не имеет право на накопительную часть трудовой пенсии, т.к. размер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ительной части трудовой пенсии по старости из всех имеющихся средств пенсионных накоплен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ставил менее 5 %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ое застрахованное лицо имеет право на единовременную выпла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ится решение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об отказе в назначении накопительной части трудовой пенсии по старости  по основанию 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азмер накопительной части трудовой пенсии по старости в случае ее назначения составил бы 5 % и менее по отношению к размеру трудовой пенсии по старости (включая страховую и накопительную част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 осуществлении единовременной выплаты  в сумм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00,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6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Lucida Console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2160" y="1714680"/>
            <a:ext cx="89154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нсионные накопления учитываются в специальной части индивидуального лицевого счета застрахованного лица и формируются  из следующих источников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траховых взносов, поступивших на финансирование накопительной части трудовой пенсии по старости, и дохода от их инвест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ополнительных страховых взносов на накопительную часть трудовой пенсии и дохода от их инвест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носов работодателя, уплаченных в пользу застрахованного лица, и дохода от их инвест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зносов на софинансирование формирования пенсионных накоплений и дохода от их инвест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страхованному лицу,1948г.р., трудовая пенсия по старости  в соответствии в ФЗ от 22.07.2008 № 156-ФЗ назначена с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5.05.200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назначением накопительной части трудовой пенсии  и единовременной вып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 указанное лицо,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тилось 16.07.2012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пециальной части ИЛС ЗЛ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 дату обращения  учтены средства пенсионных накоплений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формированные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олько за счет дополнительных страховых взно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 трудовой пенсии по старости по состоянию на 16.07.2012  составля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500,00 (без учета ФБР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– 0,0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24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ительной части трудовой пенсии, и дохода от их инвестирования -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 24000,00 /  216(на  дату обращения ) = 111,1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 первоначально определяем  размер трудовой пенсии по старости 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=СЧ+Н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7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500,00+ 111,11= 611,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11,11 / 611,11 * 100= 18,1 ,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более  5 %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от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ое застрахованное лицо имеет право на накопительную часть трудовой пенсии по стар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размер  накопительной  ча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трудовой пенсии по  старости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= ПН /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= 24000,00/216 =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11,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ится решение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 о назначении  накопительной части трудовой пенсии по стар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об отказе в назначении единовременной выплаты по основанию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 накопительной части трудовой пенсии по старости в случае ее назначения составил бы более 5% по отношению к размеру трудовой пенсии по стар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7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Lucida Console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страхованному лицу, 1943г.р., трудовая пенсия по старости назначена с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2.10.200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средства пенсионных накоплений в специальной части ИЛС ЗЛ на дату назначения пенсии не учтены)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назначением срочной пенсио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платы и единовременной вып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 указанное лицо,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тилось 16.07.2012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заявлении указан ожидаемый период выплаты для срочной пенсионной выплаты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120 месяцев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указанную дату (на 16.07.2012) в ИЛС ЗЛ учтены средств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сионных накоплений, сформированные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олько за счет дополнительных страховых взно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 трудовой пенсии по старости по состоянию на 16.07.2012 составил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3278,59 + 5000,00 = 8278,5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–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4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ительной части трудовой пенсии по старости , и дохода от их инвестирования -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 24000,00 /  216(на дату обращения ) = 24000,00/216 = 111,1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4520" y="309240"/>
            <a:ext cx="891540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8520" y="1052280"/>
            <a:ext cx="9777600" cy="561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 первоначально определяем  размер трудовой пенсии по старости 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=СЧ+Н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8278,59+ 111,11= 8389,7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11,11 / 8389,70 * 100= 1,3 ,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менее  5 %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от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ое застрахованное лицо имеет право на единовременную выплату  из всех имеющихся средст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нсионных накопле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ятся решения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об отказе в назначении срочной выплаты по основанию 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азмер накопительной части трудовой пенсии по старости в случае ее назначения составил бы 5 % и менее по отношению к размеру трудовой пенсии по старости (включая страховую и накопительную част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об осуществлении единовременной вып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в сумме 24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00,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4520" y="279000"/>
            <a:ext cx="8915400" cy="58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8 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(</a:t>
            </a:r>
            <a:r>
              <a:rPr b="0" lang="ru-RU" sz="1600" spc="-1" strike="noStrike">
                <a:solidFill>
                  <a:srgbClr val="ff0000"/>
                </a:solidFill>
                <a:latin typeface="Lucida Console"/>
              </a:rPr>
              <a:t>ПРОДОЛЖЕНИЕ</a:t>
            </a:r>
            <a:r>
              <a:rPr b="0" lang="ru-RU" sz="3200" spc="-1" strike="noStrike">
                <a:solidFill>
                  <a:srgbClr val="ff0000"/>
                </a:solidFill>
                <a:latin typeface="Lucida Conso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К трудовой пенсии по инвалидности накопительная часть не устанавливается.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месте с тем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лицам из числа инвалидов с детства, имеющим ограничение способности к трудовой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степен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лицам, больным гипофизарным нанизмом (лилипутам), диспропорциональным карликам 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инвалидам по зрению, имеющим ограничение способности к трудовой деятельности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степен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лучавшим трудовую пенсию по инвалидности до 01.01.2010 и имевшим право на получение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акопительной части трудовой пенсии по инвалидности в соответствии с пунктом 5 статьи 8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Федерального закона от 17.12.2001 № 173-ФЗ,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применявшегося до дня вступления в силу Федерального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кона от 24.07.2009 № 213-ФЗ, но не получавшим ее в связи с отсутствием федерального закона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станавливающего количество месяцев ожидаемого периода выплаты трудовой пенсии по старости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именяемого для расчета накопительной части указанной пенсии, предоставле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право выбора: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или получение накопительной части трудовой пенсии по инвалидности, рассчитываемой в порядке, предусмотренном до 01.01.2010 Федеральным законом от 17.12.2001 № 173-ФЗ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или  накопительной части трудовой пенсии по старости, в том числе досрочной по достижении соответствующего возраста, в соответствии 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зацем вторым пункта 3 статьи 6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Федерального закона от 17.12.2001 № 173-ФЗ (в редакции Федерального закона от 24.07.2009 № 213-ФЗ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валиду с детства, 1967 г.р.,  имеющему 2 группу инвалидности, трудовая пенсия п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валидности назначена с 12.01.1990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6.07.201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щается  с заявлением о назначе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опительной част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пенсии по инвалид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 специальной части ИЛС З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казанную дату (06.07.2012) учтены средства пенсионных накоплений по всем имеющимся источникам, поступившие до 01.01.201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 (по состоянию на 06.07.2012) = 3278,59+2953,36 = 6231,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инвалидности -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500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800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м размер  накопительной  части трудовой пенсии по  инвалидности  по формуле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НЧ = ПН / 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Ч на 06.07.2012 = (48000,00+15000,00)/ 216 = 291,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м размер трудовой пенсии по инвалидности по форму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 на 06.07.2012 = СЧ+Н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 на 06.07.2012 = 3278,59+2953,36+291,67 = 6523,6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рмы Федерального закона от 30.11.2011 № 360-ФЗ в части установления срочной выплаты и единовременной выплаты в данном случае не применяются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нвалиду с детства, 1967 г.р.,  имеющему 2 группу инвалидности, трудовая пенсия по инвалидности назначена с 12.01.2008г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07.08.2012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ращается  с заявлением о назначении накопительной части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пенсии по инвалидност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 учетом ранее поданного заявления о назначении пенсии. В специальной части ИЛС ЗЛ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а дату назначения трудовой пенсии по инвалидности (12.01.2008) учтены средства пенсионных накоплен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формированные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за счет основных пенсионных средст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 (по состоянию на 07.08.2012) = 3278,59+2953,36 = 6231,9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дату назначения трудовой пенсии по инвалидности (12.01.2008)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инвалидности -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5000,00 руб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ределяем размер  накопительной  части трудовой пенсии по  инвалидности  по формуле: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Ч = ПН / 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Ч на 12.01.2008 = 15000,00/ 180 = 83,3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ределяем размер трудовой пенсии по инвалидности по формул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 на дату начала выплаты (01.09.2012) = СЧ+Н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 на 01.09.2012 = 3278,59+2953,36+83,33 = 6315,2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оизводим расчет доплаты накопительной части трудовой пенсии по инвалидности  за период с 12.01.2008 по 31.08.2012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ормы Федерального закона от 30.11.2011 № 360-ФЗ в части установления срочной выплаты и единовременной выплаты в данном случае не применяются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рахованному лицу, 1938г.р.,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ая пенсия по СП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назначена с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2.10.200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казанное лицо,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тилось 15.09.2012  за назначением накопительной части трудовой пенсии и единовременной выплаты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дату обращения (на 15.09.2012) в ИЛС ЗЛ учтены сре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нсионных накоплений, сформированн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лько за счет дополнительных страховых взно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15.09.2012 размер трудовой пенсии по СПК составля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 = 1639,29(ФБР) +  4460,71 (СЧ без ФБР)= 6100,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рахованное лиц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еет право на трудовую пенсию по стар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трудовой пенсии по старости по состоянию на 15.09.2012 составит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 =3278,59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50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00 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7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8,5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4800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 -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11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из всех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Н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 48000,00 /  216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на дату обращения ) = 48000,00/216 = 222,2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 первоначально определяем  размер трудовой пенсии по старости 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8,59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 222,22 = 6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0,8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22,22 / 6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00,81 * 100 = 3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менее  5 %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от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как  законом не предусмотрено  установление накопительной части трудовой пенсии по старости к трудовой пенсии по СПК, выносим решение об отказе в установлении накопительной части трудовой пенсии по старост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ятся реш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 об отказе в назначении накопительной части трудовой пенсии по старости по основанию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оном не предусмотрено  установление накопительной части трудовой пенсии по старости к трудовой пенсии по СПК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 осуществлении единовременной вып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з всех имеющихся средств пенсионных накоплений в сумме 48000,0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азмер накопительной части трудовой пенсии по старости в случае ее назначения составил бы 5 % и менее по отношению к размеру трудовой пенсии по старости (включая страховую и накопительную част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11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рахованное лиц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еет право на трудовую пенсию по стар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трудовой пенсии по старости по состоянию на 15.09.2012 составит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 =3278,59 + 2500,00=5778,5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0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 -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страхованным лицам, сформировавшим средств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нсионных накоплений за счет вышеуказанны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точников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на основании соответствующего заявле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(заявлений)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гут быть установлены следующие вид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лат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акопительная часть трудовой пенсии по старости 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рочная пенсионная выпла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акопительная часть трудовой пенсии по стар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рочная пенсионная выпла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единовременная выпла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11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из всех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Н)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72000,00 /  216(на дату обращения ) = 72000,00/216 = 333,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 первоначально определяем  размер трудовой пенсии по старости по форму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 5778,59+ 333,33 = 6111,9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33,33 / 6111,92 * 100 = 5,5  ,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более  5 %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от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на дату обращения (15.09.2012)размер трудовой пенсии по старости с учетом НЧ (6111,92) выше размера трудовой пенсии по СПК (6100,0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 как  законом не предусмотрено  установление накопительной части трудовой пенсии по старости к трудовой пенсии по СПК, выносим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об отказе в установлении накопительной част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удовой пенсии по старости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носятся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об отказе в назначении накопительной части трудовой пенсии по старости по основанию 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ом не предусмотрено  установление накопительной части трудовой пенсии по старости к трудовой пенсии по СПК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 отказе в осуществлении единовременной выплат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азмер накопительной части трудовой пенсии по старости в случае ее назначения составил бы  более 5 %  по отношению к размеру трудовой пенсии по старости (включая страховую и накопительную част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 данном случае рекомендуется  разъяснить пенсионеру о возможности установления  трудовой пенсии по старости с учетом накопительной части, как наиболее выгодного разм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11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рахованное лиц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еет право на трудовую пенсию по стар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трудовой пенсии по старости по состоянию на 15.09.2012 составит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 =3278,59 + 2500,00=5778,5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6800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 -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11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из всех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Н)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8000,00 /  216(на дату обращения ) = 68000,00/216 = 314,8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 отношению к размеру трудовой пенсии по старости (включая страховую и накопительную части),  первоначально определяем  размер трудовой пенсии по старости по форму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 = 5778,59+ 314,81 = 6093,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тем определяем процентное  отношение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14,81 / 6093,4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* 100 = 5,2  ,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то составля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более  5 %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от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мера трудовой пенсии по старост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на дату обращения (15.09.2012)размер трудовой пенсии по старости с учетом НЧ (6093,40) меньше размера трудовой пенсии по СПК (6100,00)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 как  законом не предусмотрено  установление накопительной части трудовой пенсии по старости к трудовой пенсии по СПК, выносим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об отказе в установлении накопительной част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удовой пенсии по старости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носятся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об отказе в назначении накопительной части трудовой пенсии по старости по основанию 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ом не предусмотрено  установление накопительной части трудовой пенсии по старости к трудовой пенсии по СПК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 отказе в осуществлении единовременной выплат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азмер накопительной части трудовой пенсии по старости в случае ее назначения составил бы  более 5 %  по отношению к размеру трудовой пенсии по старости (включая страховую и накопительную част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45800"/>
            <a:ext cx="990612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МЕР 11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36640"/>
            <a:ext cx="9906120" cy="6021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рахованное лиц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имеет права на трудовую пенсию по стар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тсутствует требуемый страховой стаж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4800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 -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носятся решения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об отказе в назначении накопительной части трудовой пенсии по старости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утствие условий для назначения трудовой пенсии по старости, предусмотренных статьями 7 или 27, 27.1, 28, 28.1 Федерального закона от 17.12.2001 № 173-ФЗ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об осуществлении единовременной выпла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всех имеющихся средств пенсионных накоплений в сумме 48000,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зависимо от обращения за установлением любого вида выплат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ервоначально определяется прав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 накопительную часть трудовой пенсии по старост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о всем источникам средств пенсионных накоплений.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Т.е. определяется процентное отношение НЧ, исчисленной из всех источников средств пенсионных накоплений, к общему размеру трудовой пенсии по старости, в том  числе с учетом НЧ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щаем внимание, чт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оеннослужащим, имеющим право на назначение страховой части трудовой пенсии по старости без учета ФБР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 рамках Федерального закона от 22.07.2008 № 156-ФЗ, при определении процентного отношения НЧ, исчисленной из всех источников средств пенсионных накоплений, к общему размеру трудовой пенсии по старости,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бщий размер трудовой пенсии по старости определяется по нормам Федерального закона от 22.07.2008 № 156-ФЗ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5120" y="1628640"/>
            <a:ext cx="9515520" cy="2549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Если размер накопительной части трудовой пенсии по старости  составляет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более 5%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от общего размера трудовой пенсии по старости, то устанавливаются  выплаты в зависимости от обращ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TextBox 1"/>
          <p:cNvGrpSpPr/>
          <p:nvPr/>
        </p:nvGrpSpPr>
        <p:grpSpPr>
          <a:xfrm>
            <a:off x="139680" y="4529160"/>
            <a:ext cx="3517920" cy="1627200"/>
            <a:chOff x="139680" y="4529160"/>
            <a:chExt cx="3517920" cy="1627200"/>
          </a:xfrm>
        </p:grpSpPr>
        <p:pic>
          <p:nvPicPr>
            <p:cNvPr id="61" name="TextBox 1" descr=""/>
            <p:cNvPicPr/>
            <p:nvPr/>
          </p:nvPicPr>
          <p:blipFill>
            <a:blip r:embed="rId1"/>
            <a:stretch/>
          </p:blipFill>
          <p:spPr>
            <a:xfrm>
              <a:off x="139680" y="4529160"/>
              <a:ext cx="351792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28760" y="4797360"/>
              <a:ext cx="293976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ительная часть трудовой пенс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 стар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TextBox 1"/>
          <p:cNvGrpSpPr/>
          <p:nvPr/>
        </p:nvGrpSpPr>
        <p:grpSpPr>
          <a:xfrm>
            <a:off x="3498840" y="4529160"/>
            <a:ext cx="3017880" cy="1305000"/>
            <a:chOff x="3498840" y="4529160"/>
            <a:chExt cx="3017880" cy="1305000"/>
          </a:xfrm>
        </p:grpSpPr>
        <p:pic>
          <p:nvPicPr>
            <p:cNvPr id="64" name="TextBox 1" descr=""/>
            <p:cNvPicPr/>
            <p:nvPr/>
          </p:nvPicPr>
          <p:blipFill>
            <a:blip r:embed="rId2"/>
            <a:stretch/>
          </p:blipFill>
          <p:spPr>
            <a:xfrm>
              <a:off x="3498840" y="4529160"/>
              <a:ext cx="30178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2880" y="4797360"/>
              <a:ext cx="244476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очная пенсионная выплат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TextBox 1"/>
          <p:cNvGrpSpPr/>
          <p:nvPr/>
        </p:nvGrpSpPr>
        <p:grpSpPr>
          <a:xfrm>
            <a:off x="6224760" y="4529160"/>
            <a:ext cx="3724200" cy="2322360"/>
            <a:chOff x="6224760" y="4529160"/>
            <a:chExt cx="3724200" cy="2322360"/>
          </a:xfrm>
        </p:grpSpPr>
        <p:pic>
          <p:nvPicPr>
            <p:cNvPr id="67" name="TextBox 1" descr=""/>
            <p:cNvPicPr/>
            <p:nvPr/>
          </p:nvPicPr>
          <p:blipFill>
            <a:blip r:embed="rId3"/>
            <a:stretch/>
          </p:blipFill>
          <p:spPr>
            <a:xfrm>
              <a:off x="6224760" y="4529160"/>
              <a:ext cx="37242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513480" y="4797360"/>
              <a:ext cx="314640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ительная часть трудовой пенс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 старости 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очная пенсионная выплат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9" name="Прямая со стрелкой 15"/>
          <p:cNvCxnSpPr/>
          <p:nvPr/>
        </p:nvCxnSpPr>
        <p:spPr>
          <a:xfrm>
            <a:off x="1753920" y="4220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19"/>
          <p:cNvCxnSpPr>
            <a:stCxn id="59" idx="2"/>
          </p:cNvCxnSpPr>
          <p:nvPr/>
        </p:nvCxnSpPr>
        <p:spPr>
          <a:xfrm>
            <a:off x="4952520" y="4177800"/>
            <a:ext cx="1080" cy="475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23"/>
          <p:cNvCxnSpPr/>
          <p:nvPr/>
        </p:nvCxnSpPr>
        <p:spPr>
          <a:xfrm>
            <a:off x="8229240" y="422100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1599840"/>
            <a:ext cx="9906120" cy="5257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Если размер накопительной части трудовой пенсии по старости  составля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% и мене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т общего размера трудовой пенсии по старости :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дновременном обращении за назначением накопительной части трудовой пенсии по старости и срочной пенсионной выплатой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носится решение об отказе в назначении накопительной части трудовой пенсии по старости и срочной пенсионной выплаты и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анавливается единовременная выплата с учетом  всех имеющихся средств пенсионных накоплений на дату об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ращении только за накопительной частью трудовой пенсии по старости из средств на обязательное пенсионное страхование  или с учетом всех имеющихся средств пенсионных накоплений, выносится решение об отказе в назначении накопительной части трудовой пенсии по старости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анавливается единовременная выплата с учетом всех имеющихся средств пенсионных накоплений на дату об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ращении только за срочной пенсионной выплатой, выносится решение об отказе в назначении срочной пенсионной выплаты и устанавлива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единовременная выплата с учетом  всех имеющихся средств пенсионных накоплений  на дату об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30.11.2011 № 360-ФЗ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О порядке финансирования выплат за счет средств пенсионных накоплени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1599840"/>
            <a:ext cx="9906120" cy="5257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случае если гражданин сначала обраща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олько за срочной пенсионной выплат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размер накопительной части трудовой пенсии по старости  с учетом всех средств пенсионных накоплений составл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е 5 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 общего размера трудовой пенсии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 устанавливается  срочная пенсионная выпла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оследующем обращении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нного застрахованного ли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 назначением накопительной части трудовой пенсии  по старости право на установление  определяется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том только обязательных взносов (из средств, указанных  в источнике «а»)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азмер НЧ с учетом указанных (обязательных) взносов составит белее 5 % от общего размера трудовой пенсии, то устанавливается Н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азмер НЧ с учетом указанных (обязательных) взносов составит 5 % и менее от общего размера трудовой пенсии, то устанавливается 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329760"/>
            <a:ext cx="9066240" cy="52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Console"/>
              </a:rPr>
              <a:t>ПРИМЕР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125360"/>
            <a:ext cx="9906120" cy="5732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9.07.2012г. з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 назначением трудовой пенсии по старости обращается женщина, 19.07.1957г.р., с соответствующими заявлениями, о назначении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копительной части трудовой пенсии по старости и срочной пенсионной выплат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указанием ожидаемого периода выплаты  120 месяцев (для срочной выплаты) и единовременной выплат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3746,95+3278,59 = 7025,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траховых взносов на финансирование накопительной части трудовой пенсии по старости (из основных пенсионных средств) 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00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взносов на софинансирование формирования пенсионных накоплений, доход от их инвестирования   -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2400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мма средств (части средств) материнского (семейного) капитала, направленных на формирование накопительной части трудовой пенсии, и дохода от их инвестирования -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0,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яе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ав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на НЧ с учетом всех имеющихся средств пенсионных накоплений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из всех СПН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Ч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= (100000,00 + 24000,00) /  216(на дату назначение трудовой пенсии по старости) = 124000,00/216 = 574,0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пределения процентного  отношения  размера накопительной части трудовой пенсии по старости  п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шению к размеру трудовой пенсии по старости (включая страховую и накопительную части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воначально необходимо определить  размер трудовой пенсии по старости по формул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 = СЧ+Н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208160" y="2133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0:18:45Z</dcterms:created>
  <dc:creator>m712_1</dc:creator>
  <dc:description/>
  <dc:language>en-US</dc:language>
  <cp:lastModifiedBy>m711_5</cp:lastModifiedBy>
  <dcterms:modified xsi:type="dcterms:W3CDTF">2012-06-26T07:40:33Z</dcterms:modified>
  <cp:revision>83</cp:revision>
  <dc:subject/>
  <dc:title>Федеральный закон от 30.11.2011 № 360-ФЗ  «О порядке финансирования выплат за счет средств пенсионных накоплений»</dc:title>
</cp:coreProperties>
</file>